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A5BF-A8FE-4375-A2F9-D8DB526EB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4F34-8D80-4A30-9A3B-4ED3B0E8373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9421E-4C3A-440C-9A2A-057D173516E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68765-F172-4FEB-926B-EDC3775B603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82369-3720-48BA-A0B9-0F88A8FC05E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A6A21-10FF-4168-B355-D5CE4227605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BB764-EDA3-4583-9761-27FCEC714C6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9C7F1-5B06-427C-8895-8BD333DFC02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27BC5-1047-4687-AAC2-02506DA801F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AD18C-77BA-4B85-A313-DD8EECD96E4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1B32B-F7DC-4283-B738-59414390359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397EC-7941-433E-8B1B-CE178C693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D725-06C7-43E2-A6C8-3D51D20E217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DF23E3-5908-4FA7-936B-DF6A3BF389D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3F1CFC-F5D6-4C28-99F5-F6735311EFF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53803C-DBE5-404C-BDF9-DA5297A32AA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F0440A-C51D-4B1A-B7AD-1D5CAD4B070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9F27D8-DB31-4B9A-95BA-90D3E76F4BD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04F43-B564-4EDF-8CD6-CCFD1C1FE1C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9D9C5-A8C6-414C-91A5-9F118860D23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1FE43B-8142-467E-B8A4-CBB630EB203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9ECC27-308F-4950-947A-04C6B8D74CD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04B0A6-E504-4875-B214-EC229D042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0FBD-626B-4032-B840-4F68E0EA0A8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EC3DC4-8D3A-4A0B-BB01-C03162487F5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00F8E5-8388-468F-9482-9AED3DCCE9B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C84C23-C4BE-4FD3-898E-7C6716BA553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36B25-4780-4DF0-A5E7-6FE10A700D2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7DA0D8-2D6E-486D-8C10-B7833648B74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F72DF0-A8F8-4B69-B7A7-8DE83EC66D8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B115B3-0FEE-4BAD-8A32-F3BDF5272A3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1C033A-BC29-4A61-B590-EA47667193C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E0E076-56E3-4EB2-A559-B08C9F0BC37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B2B20-7494-4843-BAFA-D52C826EF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F6E50-72A6-4E6A-B536-6B7AB249F1A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0F6091-AE15-4514-A1BF-FE7C525C1F4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553F0B-D6F0-4DF8-8B17-02127B85F5F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F937D4-1D5F-42FB-8C14-53776F0966D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AA9A8-E595-4D9B-9B70-BF0A3A65F7C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8C9F6-001A-47B8-B799-B3BD26801B6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E8529-D51F-4281-A12F-DFAF1F35603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20972-A7A8-4D6B-8AC2-3AB6C639B1B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4032-F825-4000-AC4A-8D422C82CBE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1CA4F-5634-4522-8131-86183681FC2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B1540-63CD-4A1F-9582-6A6C91DE15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06F69-4CC8-4F0A-96AC-92CA0C0B7F6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D05F3-C392-42B3-805D-5E3675D9E08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C1632-C643-44B7-9BBE-B46E11EF621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3B634-E1C0-488C-806B-8CA27941E20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DC87D-6612-4F33-A2D9-C3CE74F48D8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E41F1-E758-4DB1-BB71-391478EA84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750A0-473C-4F6B-9C9F-96C6589EC0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C707-765C-44EF-BE1A-702F75A340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0AB8F-8EF2-4342-BDDB-27D437AEB4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5FD2E-B8C3-437C-821D-D545357360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327A7-E3B9-43DF-9F16-75B31C9502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81C3-6794-4DC6-8AB5-3B2314960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416C6-BA59-450D-B5C3-06B7F7E0E8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8D3F3-CBEB-459E-9FD4-E4FDF03689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34181-DDDB-4EA4-8A96-5BB7E98364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5F84-7106-4FC4-B0A5-B5C1914218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B3AB2-0C8A-4DF1-96C6-FC2F197019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B27-CF07-48C3-BFF4-6C8EE2A2E9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E30-1166-45E6-8DC8-33B7BC20B0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66D-88E4-40C4-9A81-3D6DC8C861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677-26B8-407F-8ACF-D3372362CF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FD6-E0F8-4BAD-8F0C-15A92F84AD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01C36-426D-40B8-8E93-379EFB1571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232-0752-4CF6-A1EB-595F5B8E32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274-9219-4A25-B65C-E69882DFFD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4FBC-2206-4E6B-8717-B61D91F2EC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F16-BAD9-49FE-BA27-CF955AF9B4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388-83A5-441E-91D6-DBB285B513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243-087A-40CA-9A1E-4521BB825A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2EE-33F2-4C53-8F52-0148699B5A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AC682-29C6-4CCF-83ED-E065083775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E2B91-ACDE-4A84-AF48-E6CA3EC7E2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DD4E7-8DC2-400B-86A7-C7ED0B597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E083-CD77-4EDF-B85D-0B0AE692E7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29C07-6270-49D7-8BC9-282BDD1803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B16D1-BDA4-477B-ABC7-F7B7D98D39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38F68-C5CA-4CCB-BDC6-CF11C00B31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44F2B-5AFF-43B6-BC06-CF63C4C7B6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3DEAE-0ED8-4079-8924-87606857DC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1D6ED-5222-4CFA-AF41-00837E32408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D57DF-487E-4140-A992-1520EF164C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081CD-CFE3-4C43-A1EE-4953546090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A68E4-5A62-448A-BA6E-E7FCBFA6047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8C81B-FAE0-4C2F-8DC7-11B27C918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E357-318F-49BD-93F4-F94065C0573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4AAA3-EDE8-416A-BC3F-2A5F77FE8EA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D7F74-0942-49D9-B154-ED2036AC0BC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9C65E-3648-4D03-A903-64873111825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014C7-136A-4D1D-97EE-F09C10880C1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C4473-E7C1-4FC2-8C26-CFC6A21F22D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6964E-F6F6-4703-A63C-F8A1737A116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7013E-FA0E-451B-A2C2-43DAE05EB5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FC7C3-F580-4E69-BCC2-8CBB2499F32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C7A89-91E7-45DF-875A-D2097A3043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8C133-E5B3-4B1D-91E6-F3EC92470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EB7F-5FCD-4DB2-917C-D2005EE06C2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E7B32-80B3-4ED9-B938-8FBB7AA5E4B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547E-F665-4104-91FA-D6AED75D730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A170-3446-480B-9603-B24DFAE08FA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BB8C-E293-492E-BF61-01BB64E2E1D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CF3F-7FF3-428D-A667-A6F5A0F639C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5250-35FD-4C26-8CD9-A3155C0EA46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9B3C-63A8-4233-8434-BE41C03B55B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3A2D-C278-4E9A-B2D9-80CFD6DD943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5B88-767B-453C-A64C-A9518DB165E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FC03-0197-4640-B4B2-0C4FE82B3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0C6E4-DFF8-4A05-8022-844D75366AA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4956-B344-4DAE-903E-D796FA012A8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A764-5503-46B2-9F4E-3E7863DD587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D5FE-A4E8-4A37-846C-68EB761020C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5D35E-9AA7-4979-BDF7-9125F042C38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1D485A-F4E7-4FBF-B1BB-143A80ED27F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B5F8F3-EC07-452B-9967-973247AE0E5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BCA362-E59F-4D4B-B25E-D9CDCA7C4BB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5C2763-A6C7-4027-9E5D-14F7A6819FD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135F52-2386-41B0-8C5F-F26012882D8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0BDA06-D574-457A-963B-DE9064D39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047E-1C84-4E1D-8BDC-2C695E216B5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674A3-8FB3-458B-90E2-759006D4553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14259C-ECE3-4BE2-96AA-55093C06F76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1CF95-06B9-4848-B9DC-89EEE5EBFFD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E91510-E5D2-458B-B661-98CD70F8CBF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407CD-ED07-4AE4-A799-A3BBA5FB6FA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7DCF4-2943-4BF0-93A2-0E5CDC33E8E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60B84-D1BE-4E98-BB68-F917715F8F9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A9229-FA61-4324-A7B0-12CFA3750DD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FAF7B-1B88-4CB3-BC49-9C67829A372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643CA-3723-4D99-9110-D9BF432F9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7408-81AF-4DCE-9C7C-4CDCEE4257D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20EF9-2B53-46A0-B6AC-8B386F92662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8C292-37F3-4BB6-9A86-E30ACE55E8F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BC3C5-6346-45F1-B0CA-55619E79074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D0E19-BA37-4D2B-BD3C-1A1846F0035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28F07-301E-443F-9D56-1BAAD4FBCBA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805E7-AB7C-4A55-99DF-9DE6DA810A2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31898-A070-4DFE-9732-B9DAA3A76EE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CE7E-AD86-4EFB-8BD7-0138EF5E09F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31596-A2F0-4085-984B-33E6A4FA96D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1318F-C06A-4481-B697-AA8C3AD61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299280" y="9258120"/>
            <a:ext cx="3888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B2C6C-A450-496A-B56F-C051B6FA0DE9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ldNum" idx="10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902AA-29B4-4F87-BC96-5AEE5A82999E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Num" idx="11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AC54B-CF4A-4017-BCFA-516612B2A9FD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1270080" y="193680"/>
            <a:ext cx="10461600" cy="1012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Num" idx="12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4EECA-C076-4E42-ABE6-6589DA0B6288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70080" y="2009880"/>
            <a:ext cx="10461600" cy="789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D3896-6B53-4FB6-8D06-59E0776EE7B7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6960" y="35686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6299280" y="9258120"/>
            <a:ext cx="3888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F35D7-50A5-408F-AB4A-8192980CE631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6960" y="7180200"/>
            <a:ext cx="11426760" cy="241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Num" idx="4"/>
          </p:nvPr>
        </p:nvSpPr>
        <p:spPr>
          <a:xfrm>
            <a:off x="6299280" y="9258120"/>
            <a:ext cx="3888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33FD7-1B87-4346-A6E4-4A9A9DE3CE4C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"/>
          <p:cNvGrpSpPr/>
          <p:nvPr/>
        </p:nvGrpSpPr>
        <p:grpSpPr>
          <a:xfrm>
            <a:off x="0" y="0"/>
            <a:ext cx="13001760" cy="9750600"/>
            <a:chOff x="0" y="0"/>
            <a:chExt cx="13001760" cy="9750600"/>
          </a:xfrm>
        </p:grpSpPr>
        <p:pic>
          <p:nvPicPr>
            <p:cNvPr id="155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001760" cy="975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" descr=""/>
            <p:cNvPicPr/>
            <p:nvPr/>
          </p:nvPicPr>
          <p:blipFill>
            <a:blip r:embed="rId4"/>
            <a:stretch/>
          </p:blipFill>
          <p:spPr>
            <a:xfrm>
              <a:off x="6832440" y="2222640"/>
              <a:ext cx="4721400" cy="605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4600" y="1717200"/>
            <a:ext cx="6245280" cy="357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44600" y="5397120"/>
            <a:ext cx="6245280" cy="1271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5"/>
          </p:nvPr>
        </p:nvSpPr>
        <p:spPr>
          <a:xfrm>
            <a:off x="6299280" y="9258120"/>
            <a:ext cx="3888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98FDA-5E92-4624-B411-7357D02D48F9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-10933560"/>
            <a:ext cx="4632120" cy="337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6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89B67-D808-4208-9745-CC476129D33D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70080" y="3124080"/>
            <a:ext cx="10461600" cy="79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7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A6FE5-93CD-401A-B3BE-B5EAB1FE75A5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447560" y="-10933560"/>
            <a:ext cx="4632120" cy="337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8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8550A-845A-4AF4-94DB-E37DBF64E7D0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8051760" y="-12095640"/>
            <a:ext cx="3679920" cy="3609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9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72E49-A8FF-4770-B69B-756C19A25EEB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D3B64-9D70-43EB-9935-D4B2454EFD70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53920" y="2611080"/>
            <a:ext cx="11430000" cy="394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>
                <a:solidFill>
                  <a:srgbClr val="d7e2ee"/>
                </a:solidFill>
                <a:latin typeface="Stone Sans ITC TT-Semi"/>
              </a:rPr>
              <a:t>Elements</a:t>
            </a:r>
            <a:br>
              <a:rPr sz="8400"/>
            </a:br>
            <a:r>
              <a:rPr b="1" lang="en-US" sz="8400" spc="-1" strike="noStrike">
                <a:solidFill>
                  <a:srgbClr val="d7e2ee"/>
                </a:solidFill>
                <a:latin typeface="Stone Sans ITC TT-Semi"/>
              </a:rPr>
              <a:t>of the</a:t>
            </a:r>
            <a:br>
              <a:rPr sz="8400"/>
            </a:br>
            <a:r>
              <a:rPr b="1" lang="en-US" sz="8400" spc="-1" strike="noStrike">
                <a:solidFill>
                  <a:srgbClr val="d7e2ee"/>
                </a:solidFill>
                <a:latin typeface="Stone Sans ITC TT-Semi"/>
              </a:rPr>
              <a:t>Periodic Table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0400C-D95A-4E59-8897-BA483666ACB4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2"/>
          <a:stretch/>
        </p:blipFill>
        <p:spPr>
          <a:xfrm>
            <a:off x="5726160" y="3492360"/>
            <a:ext cx="6973920" cy="4280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"/>
          <p:cNvPicPr/>
          <p:nvPr/>
        </p:nvPicPr>
        <p:blipFill>
          <a:blip r:embed="rId3"/>
          <a:stretch/>
        </p:blipFill>
        <p:spPr>
          <a:xfrm>
            <a:off x="6097680" y="8001000"/>
            <a:ext cx="5535360" cy="1104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"/>
          <p:cNvPicPr/>
          <p:nvPr/>
        </p:nvPicPr>
        <p:blipFill>
          <a:blip r:embed="rId4"/>
          <a:stretch/>
        </p:blipFill>
        <p:spPr>
          <a:xfrm>
            <a:off x="4800600" y="3784680"/>
            <a:ext cx="965160" cy="39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08C48-115F-4CE2-844A-A738ED59A448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2"/>
          <a:stretch/>
        </p:blipFill>
        <p:spPr>
          <a:xfrm>
            <a:off x="6500880" y="3503520"/>
            <a:ext cx="6973920" cy="42800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" descr=""/>
          <p:cNvPicPr/>
          <p:nvPr/>
        </p:nvPicPr>
        <p:blipFill>
          <a:blip r:embed="rId3"/>
          <a:stretch/>
        </p:blipFill>
        <p:spPr>
          <a:xfrm>
            <a:off x="1346040" y="6672240"/>
            <a:ext cx="5535720" cy="1104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4"/>
          <a:stretch/>
        </p:blipFill>
        <p:spPr>
          <a:xfrm>
            <a:off x="419040" y="3782880"/>
            <a:ext cx="965160" cy="39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8F9C3-F106-41BE-96A2-8EEFE92E44DB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19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N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"/>
          <p:cNvPicPr/>
          <p:nvPr/>
        </p:nvPicPr>
        <p:blipFill>
          <a:blip r:embed="rId3"/>
          <a:stretch/>
        </p:blipFill>
        <p:spPr>
          <a:xfrm>
            <a:off x="4863960" y="3492360"/>
            <a:ext cx="8013960" cy="44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D1E7B-F9BC-4150-A79A-95EE5C1C2054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30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N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most are gases at room temperature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3"/>
          <a:stretch/>
        </p:blipFill>
        <p:spPr>
          <a:xfrm>
            <a:off x="4863960" y="3492360"/>
            <a:ext cx="8013960" cy="444672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5"/>
          <p:cNvSpPr/>
          <p:nvPr/>
        </p:nvSpPr>
        <p:spPr>
          <a:xfrm>
            <a:off x="787320" y="6058080"/>
            <a:ext cx="379728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1" lang="en-US" sz="3600" spc="-1" strike="noStrike">
                <a:solidFill>
                  <a:srgbClr val="ff0000"/>
                </a:solidFill>
                <a:latin typeface="Stone Sans ITC TT-Semi"/>
                <a:ea typeface="Stone Sans ITC TT-Semi"/>
              </a:rPr>
              <a:t>8</a:t>
            </a:r>
            <a:r>
              <a:rPr b="0" lang="en-US" sz="36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 are diatomic molecules</a:t>
            </a:r>
            <a:endParaRPr b="0" lang="en-US" sz="36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pic>
        <p:nvPicPr>
          <p:cNvPr id="546" name="Picture 6" descr=""/>
          <p:cNvPicPr/>
          <p:nvPr/>
        </p:nvPicPr>
        <p:blipFill>
          <a:blip r:embed="rId4"/>
          <a:stretch/>
        </p:blipFill>
        <p:spPr>
          <a:xfrm>
            <a:off x="4863960" y="4406760"/>
            <a:ext cx="6570720" cy="26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D39FA-B5BB-44C3-A512-CB0CE025E3D7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22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A24EE-C096-431F-91DB-DE64D3746A6A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814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An additional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6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ransiti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887E2-E52F-40CA-8791-DF16B59D454B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595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Good conductor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f heat &amp;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electricity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6"/>
          <p:cNvSpPr/>
          <p:nvPr/>
        </p:nvSpPr>
        <p:spPr>
          <a:xfrm>
            <a:off x="787320" y="7289640"/>
            <a:ext cx="37972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Lustrou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(shiny)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89431-443C-4E61-BEC6-6B3FF4B6D2C1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3757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Malleabl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(pound into sheets)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5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6"/>
          <p:cNvSpPr/>
          <p:nvPr/>
        </p:nvSpPr>
        <p:spPr>
          <a:xfrm>
            <a:off x="787320" y="6388200"/>
            <a:ext cx="3797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Ductile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(draw into wires)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47C2F-30BB-44FF-B25F-0C7BCC615D1A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Stone Sans ITC TT-Semi"/>
                <a:ea typeface="Stone Sans ITC TT-Semi"/>
              </a:rPr>
              <a:t>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of the known elements are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43686-E0C5-44D7-8CAB-3CAD8613A657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3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have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properties of both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amp;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Non-Metal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EA838-0102-474E-B1A8-3A149BBD9CC6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11430000" cy="318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What is an element?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Can you name 5 of them?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A71EB-6CD4-414C-B71B-13BED9FA097B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are used in semi-conductor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for computer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ie: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Silicon (Si)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1D5E9-E31F-455A-A790-307E7E9E63DA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890640" y="3223800"/>
            <a:ext cx="11430000" cy="318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"/>
              </a:rPr>
              <a:t>An element is any substance that can not be broken down into simpler substances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736560" y="49320"/>
            <a:ext cx="114300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CDD03-E368-49C9-8A44-2675C6FE6903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36560" y="49320"/>
            <a:ext cx="11430000" cy="29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11430000" cy="595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re are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11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known element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90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are found naturally on the earth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Currently,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2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are synthetic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 man-mad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0BF50-162C-485B-8094-62AA801BD54F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74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All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11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ganized on the Periodic Table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6E99B-9331-4CA3-8FA6-67C3DCF84046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“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periodic” means to be repeating at regular interv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D2CEC-00D5-43D4-80A0-707C3CE8CAD8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Periodic Table is organized in 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7 Periods or row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4356000" y="46101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356000" y="50547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90" name="AutoShape 6"/>
          <p:cNvSpPr/>
          <p:nvPr/>
        </p:nvSpPr>
        <p:spPr>
          <a:xfrm>
            <a:off x="4356000" y="55119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4356000" y="59691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92" name="AutoShape 8"/>
          <p:cNvSpPr/>
          <p:nvPr/>
        </p:nvSpPr>
        <p:spPr>
          <a:xfrm>
            <a:off x="4356000" y="64263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grpSp>
        <p:nvGrpSpPr>
          <p:cNvPr id="493" name="Group 9"/>
          <p:cNvGrpSpPr/>
          <p:nvPr/>
        </p:nvGrpSpPr>
        <p:grpSpPr>
          <a:xfrm>
            <a:off x="4356000" y="6870600"/>
            <a:ext cx="428760" cy="1711440"/>
            <a:chOff x="4356000" y="6870600"/>
            <a:chExt cx="428760" cy="1711440"/>
          </a:xfrm>
        </p:grpSpPr>
        <p:sp>
          <p:nvSpPr>
            <p:cNvPr id="494" name="AutoShape 10"/>
            <p:cNvSpPr/>
            <p:nvPr/>
          </p:nvSpPr>
          <p:spPr>
            <a:xfrm>
              <a:off x="4356000" y="6870600"/>
              <a:ext cx="428760" cy="339840"/>
            </a:xfrm>
            <a:prstGeom prst="rightArrow">
              <a:avLst>
                <a:gd name="adj1" fmla="val 48148"/>
                <a:gd name="adj2" fmla="val 77930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Bradley Hand ITC TT-Bold"/>
              </a:endParaRPr>
            </a:p>
          </p:txBody>
        </p:sp>
        <p:sp>
          <p:nvSpPr>
            <p:cNvPr id="495" name="AutoShape 11"/>
            <p:cNvSpPr/>
            <p:nvPr/>
          </p:nvSpPr>
          <p:spPr>
            <a:xfrm>
              <a:off x="4356000" y="8242200"/>
              <a:ext cx="428760" cy="339840"/>
            </a:xfrm>
            <a:prstGeom prst="rightArrow">
              <a:avLst>
                <a:gd name="adj1" fmla="val 48148"/>
                <a:gd name="adj2" fmla="val 77930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Bradley Hand ITC TT-Bold"/>
              </a:endParaRPr>
            </a:p>
          </p:txBody>
        </p:sp>
      </p:grpSp>
      <p:grpSp>
        <p:nvGrpSpPr>
          <p:cNvPr id="496" name="Group 12"/>
          <p:cNvGrpSpPr/>
          <p:nvPr/>
        </p:nvGrpSpPr>
        <p:grpSpPr>
          <a:xfrm>
            <a:off x="4356000" y="7353360"/>
            <a:ext cx="428760" cy="1635120"/>
            <a:chOff x="4356000" y="7353360"/>
            <a:chExt cx="428760" cy="1635120"/>
          </a:xfrm>
        </p:grpSpPr>
        <p:sp>
          <p:nvSpPr>
            <p:cNvPr id="497" name="AutoShape 13"/>
            <p:cNvSpPr/>
            <p:nvPr/>
          </p:nvSpPr>
          <p:spPr>
            <a:xfrm>
              <a:off x="4356000" y="7353360"/>
              <a:ext cx="428760" cy="339840"/>
            </a:xfrm>
            <a:prstGeom prst="rightArrow">
              <a:avLst>
                <a:gd name="adj1" fmla="val 48148"/>
                <a:gd name="adj2" fmla="val 77930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Bradley Hand ITC TT-Bold"/>
              </a:endParaRPr>
            </a:p>
          </p:txBody>
        </p:sp>
        <p:sp>
          <p:nvSpPr>
            <p:cNvPr id="498" name="AutoShape 14"/>
            <p:cNvSpPr/>
            <p:nvPr/>
          </p:nvSpPr>
          <p:spPr>
            <a:xfrm>
              <a:off x="4356000" y="8648640"/>
              <a:ext cx="428760" cy="339840"/>
            </a:xfrm>
            <a:prstGeom prst="rightArrow">
              <a:avLst>
                <a:gd name="adj1" fmla="val 48148"/>
                <a:gd name="adj2" fmla="val 77930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Bradley Hand ITC TT-Bold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3217A-D7E6-4776-9675-8AF8C60CDBF5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... and in 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18 Group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 column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 Groups are also called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“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Families”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4"/>
          <p:cNvSpPr/>
          <p:nvPr/>
        </p:nvSpPr>
        <p:spPr>
          <a:xfrm rot="5400000">
            <a:off x="4968720" y="393696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4" name="AutoShape 5"/>
          <p:cNvSpPr/>
          <p:nvPr/>
        </p:nvSpPr>
        <p:spPr>
          <a:xfrm rot="5400000">
            <a:off x="534348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5" name="AutoShape 6"/>
          <p:cNvSpPr/>
          <p:nvPr/>
        </p:nvSpPr>
        <p:spPr>
          <a:xfrm rot="5400000">
            <a:off x="571176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6" name="AutoShape 7"/>
          <p:cNvSpPr/>
          <p:nvPr/>
        </p:nvSpPr>
        <p:spPr>
          <a:xfrm rot="5400000">
            <a:off x="608004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7" name="AutoShape 8"/>
          <p:cNvSpPr/>
          <p:nvPr/>
        </p:nvSpPr>
        <p:spPr>
          <a:xfrm rot="5400000">
            <a:off x="646092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8" name="AutoShape 9"/>
          <p:cNvSpPr/>
          <p:nvPr/>
        </p:nvSpPr>
        <p:spPr>
          <a:xfrm rot="5400000">
            <a:off x="685476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9" name="AutoShape 10"/>
          <p:cNvSpPr/>
          <p:nvPr/>
        </p:nvSpPr>
        <p:spPr>
          <a:xfrm rot="5400000">
            <a:off x="722304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0" name="AutoShape 11"/>
          <p:cNvSpPr/>
          <p:nvPr/>
        </p:nvSpPr>
        <p:spPr>
          <a:xfrm rot="5400000">
            <a:off x="757836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1" name="AutoShape 12"/>
          <p:cNvSpPr/>
          <p:nvPr/>
        </p:nvSpPr>
        <p:spPr>
          <a:xfrm rot="5400000">
            <a:off x="793404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2" name="AutoShape 13"/>
          <p:cNvSpPr/>
          <p:nvPr/>
        </p:nvSpPr>
        <p:spPr>
          <a:xfrm rot="5400000">
            <a:off x="828972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3" name="AutoShape 14"/>
          <p:cNvSpPr/>
          <p:nvPr/>
        </p:nvSpPr>
        <p:spPr>
          <a:xfrm rot="5400000">
            <a:off x="864540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4" name="AutoShape 15"/>
          <p:cNvSpPr/>
          <p:nvPr/>
        </p:nvSpPr>
        <p:spPr>
          <a:xfrm rot="5400000">
            <a:off x="901368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5" name="AutoShape 16"/>
          <p:cNvSpPr/>
          <p:nvPr/>
        </p:nvSpPr>
        <p:spPr>
          <a:xfrm rot="5400000">
            <a:off x="936936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6" name="AutoShape 17"/>
          <p:cNvSpPr/>
          <p:nvPr/>
        </p:nvSpPr>
        <p:spPr>
          <a:xfrm rot="5400000">
            <a:off x="973764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7" name="AutoShape 18"/>
          <p:cNvSpPr/>
          <p:nvPr/>
        </p:nvSpPr>
        <p:spPr>
          <a:xfrm rot="5400000">
            <a:off x="1010592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8" name="AutoShape 19"/>
          <p:cNvSpPr/>
          <p:nvPr/>
        </p:nvSpPr>
        <p:spPr>
          <a:xfrm rot="5400000">
            <a:off x="1047420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9" name="AutoShape 20"/>
          <p:cNvSpPr/>
          <p:nvPr/>
        </p:nvSpPr>
        <p:spPr>
          <a:xfrm rot="5400000">
            <a:off x="1084248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20" name="AutoShape 21"/>
          <p:cNvSpPr/>
          <p:nvPr/>
        </p:nvSpPr>
        <p:spPr>
          <a:xfrm rot="5400000">
            <a:off x="11210760" y="39434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C1E84-E65C-4166-B434-B4EEEEBCEAC3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Elements in the same Group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have similar characteristic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2-03-05T13:16:45Z</dcterms:modified>
  <cp:revision>4</cp:revision>
  <dc:subject/>
  <dc:title>Elements of the Periodic Table</dc:title>
</cp:coreProperties>
</file>